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E62-8FC8-48D9-9686-51EF8F79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EF9-949A-43AC-8590-C55E71AC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F50-E943-4BCA-A30A-9C67F6A7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30F-B1E8-45E9-817B-0AC638B8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8AF-4D54-486C-94EB-D95BEF84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72A-3E45-427E-AC93-13F2F5A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346-C5DE-46F2-9E9A-CA93A6D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4F7-2557-4FDA-90E0-EB29A7CD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6CE-DEB4-4FCF-B0C7-8F80456B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914-E26A-42D8-AC72-23EED445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0ED-A7E0-40FB-88F4-B78A6F0C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893-D8E8-45EC-8465-30FCAF4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6DB6-927D-4A64-9C8B-C730A7A4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979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913040" y="228600"/>
            <a:ext cx="5383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3244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2057400" y="129528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447920" y="1447920"/>
            <a:ext cx="63244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am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76520" y="1371600"/>
            <a:ext cx="61722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the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219320" y="1447920"/>
            <a:ext cx="6858000" cy="77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little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114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60199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6294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247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53:33Z</dcterms:created>
  <dc:creator>Chris Mclemore</dc:creator>
  <dc:description/>
  <dc:language>en-US</dc:language>
  <cp:lastModifiedBy>Help Desk</cp:lastModifiedBy>
  <dcterms:modified xsi:type="dcterms:W3CDTF">2009-09-04T21:40:46Z</dcterms:modified>
  <cp:revision>3</cp:revision>
  <dc:subject/>
  <dc:title>PowerPoint Presentation</dc:title>
</cp:coreProperties>
</file>